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7720"/>
            </a:xfrm>
            <a:custGeom>
              <a:avLst/>
              <a:gdLst/>
              <a:ahLst/>
              <a:rect l="l" t="t" r="r" b="b"/>
              <a:pathLst>
                <a:path w="25392" h="7829">
                  <a:moveTo>
                    <a:pt x="0" y="0"/>
                  </a:moveTo>
                  <a:lnTo>
                    <a:pt x="0" y="7828"/>
                  </a:lnTo>
                  <a:lnTo>
                    <a:pt x="25391" y="7828"/>
                  </a:lnTo>
                  <a:lnTo>
                    <a:pt x="2539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4320" cy="4614840"/>
              <a:chOff x="2743200" y="2236680"/>
              <a:chExt cx="6394320" cy="4614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12711" h="7368">
                    <a:moveTo>
                      <a:pt x="12230" y="2397"/>
                    </a:moveTo>
                    <a:lnTo>
                      <a:pt x="12084" y="2327"/>
                    </a:lnTo>
                    <a:lnTo>
                      <a:pt x="11872" y="2230"/>
                    </a:lnTo>
                    <a:lnTo>
                      <a:pt x="11608" y="2133"/>
                    </a:lnTo>
                    <a:lnTo>
                      <a:pt x="11295" y="2014"/>
                    </a:lnTo>
                    <a:lnTo>
                      <a:pt x="10937" y="1868"/>
                    </a:lnTo>
                    <a:lnTo>
                      <a:pt x="10531" y="1749"/>
                    </a:lnTo>
                    <a:lnTo>
                      <a:pt x="9716" y="1511"/>
                    </a:lnTo>
                    <a:lnTo>
                      <a:pt x="9165" y="1366"/>
                    </a:lnTo>
                    <a:lnTo>
                      <a:pt x="8688" y="1220"/>
                    </a:lnTo>
                    <a:lnTo>
                      <a:pt x="8283" y="1079"/>
                    </a:lnTo>
                    <a:lnTo>
                      <a:pt x="7969" y="934"/>
                    </a:lnTo>
                    <a:lnTo>
                      <a:pt x="7682" y="789"/>
                    </a:lnTo>
                    <a:lnTo>
                      <a:pt x="7466" y="670"/>
                    </a:lnTo>
                    <a:lnTo>
                      <a:pt x="7299" y="550"/>
                    </a:lnTo>
                    <a:lnTo>
                      <a:pt x="7180" y="454"/>
                    </a:lnTo>
                    <a:lnTo>
                      <a:pt x="7083" y="357"/>
                    </a:lnTo>
                    <a:lnTo>
                      <a:pt x="7012" y="264"/>
                    </a:lnTo>
                    <a:lnTo>
                      <a:pt x="6990" y="189"/>
                    </a:lnTo>
                    <a:lnTo>
                      <a:pt x="6964" y="119"/>
                    </a:lnTo>
                    <a:lnTo>
                      <a:pt x="6990" y="22"/>
                    </a:lnTo>
                    <a:lnTo>
                      <a:pt x="6990" y="0"/>
                    </a:lnTo>
                    <a:lnTo>
                      <a:pt x="6915" y="119"/>
                    </a:lnTo>
                    <a:lnTo>
                      <a:pt x="6867" y="215"/>
                    </a:lnTo>
                    <a:lnTo>
                      <a:pt x="6867" y="335"/>
                    </a:lnTo>
                    <a:lnTo>
                      <a:pt x="6915" y="431"/>
                    </a:lnTo>
                    <a:lnTo>
                      <a:pt x="7012" y="528"/>
                    </a:lnTo>
                    <a:lnTo>
                      <a:pt x="7131" y="621"/>
                    </a:lnTo>
                    <a:lnTo>
                      <a:pt x="7277" y="718"/>
                    </a:lnTo>
                    <a:lnTo>
                      <a:pt x="7444" y="815"/>
                    </a:lnTo>
                    <a:lnTo>
                      <a:pt x="7660" y="912"/>
                    </a:lnTo>
                    <a:lnTo>
                      <a:pt x="7898" y="1005"/>
                    </a:lnTo>
                    <a:lnTo>
                      <a:pt x="8402" y="1176"/>
                    </a:lnTo>
                    <a:lnTo>
                      <a:pt x="8997" y="1366"/>
                    </a:lnTo>
                    <a:lnTo>
                      <a:pt x="9623" y="1533"/>
                    </a:lnTo>
                    <a:lnTo>
                      <a:pt x="10077" y="1679"/>
                    </a:lnTo>
                    <a:lnTo>
                      <a:pt x="10505" y="1798"/>
                    </a:lnTo>
                    <a:lnTo>
                      <a:pt x="10866" y="1917"/>
                    </a:lnTo>
                    <a:lnTo>
                      <a:pt x="11202" y="2036"/>
                    </a:lnTo>
                    <a:lnTo>
                      <a:pt x="11489" y="2133"/>
                    </a:lnTo>
                    <a:lnTo>
                      <a:pt x="11727" y="2230"/>
                    </a:lnTo>
                    <a:lnTo>
                      <a:pt x="11943" y="2327"/>
                    </a:lnTo>
                    <a:lnTo>
                      <a:pt x="12084" y="2397"/>
                    </a:lnTo>
                    <a:lnTo>
                      <a:pt x="12208" y="2468"/>
                    </a:lnTo>
                    <a:lnTo>
                      <a:pt x="12278" y="2543"/>
                    </a:lnTo>
                    <a:lnTo>
                      <a:pt x="12327" y="2614"/>
                    </a:lnTo>
                    <a:lnTo>
                      <a:pt x="12349" y="2711"/>
                    </a:lnTo>
                    <a:lnTo>
                      <a:pt x="12327" y="2830"/>
                    </a:lnTo>
                    <a:lnTo>
                      <a:pt x="12278" y="2927"/>
                    </a:lnTo>
                    <a:lnTo>
                      <a:pt x="12181" y="3046"/>
                    </a:lnTo>
                    <a:lnTo>
                      <a:pt x="12040" y="3143"/>
                    </a:lnTo>
                    <a:lnTo>
                      <a:pt x="11872" y="3240"/>
                    </a:lnTo>
                    <a:lnTo>
                      <a:pt x="11656" y="3333"/>
                    </a:lnTo>
                    <a:lnTo>
                      <a:pt x="11418" y="3430"/>
                    </a:lnTo>
                    <a:lnTo>
                      <a:pt x="11154" y="3527"/>
                    </a:lnTo>
                    <a:lnTo>
                      <a:pt x="10840" y="3624"/>
                    </a:lnTo>
                    <a:lnTo>
                      <a:pt x="10505" y="3716"/>
                    </a:lnTo>
                    <a:lnTo>
                      <a:pt x="10148" y="3813"/>
                    </a:lnTo>
                    <a:lnTo>
                      <a:pt x="9764" y="3910"/>
                    </a:lnTo>
                    <a:lnTo>
                      <a:pt x="8953" y="4100"/>
                    </a:lnTo>
                    <a:lnTo>
                      <a:pt x="8039" y="4316"/>
                    </a:lnTo>
                    <a:lnTo>
                      <a:pt x="7083" y="4558"/>
                    </a:lnTo>
                    <a:lnTo>
                      <a:pt x="6077" y="4823"/>
                    </a:lnTo>
                    <a:lnTo>
                      <a:pt x="5049" y="5131"/>
                    </a:lnTo>
                    <a:lnTo>
                      <a:pt x="4022" y="5471"/>
                    </a:lnTo>
                    <a:lnTo>
                      <a:pt x="2968" y="5855"/>
                    </a:lnTo>
                    <a:lnTo>
                      <a:pt x="1940" y="6309"/>
                    </a:lnTo>
                    <a:lnTo>
                      <a:pt x="956" y="6812"/>
                    </a:lnTo>
                    <a:lnTo>
                      <a:pt x="0" y="7367"/>
                    </a:lnTo>
                    <a:lnTo>
                      <a:pt x="1556" y="7367"/>
                    </a:lnTo>
                    <a:lnTo>
                      <a:pt x="2444" y="6909"/>
                    </a:lnTo>
                    <a:lnTo>
                      <a:pt x="3326" y="6477"/>
                    </a:lnTo>
                    <a:lnTo>
                      <a:pt x="4212" y="6120"/>
                    </a:lnTo>
                    <a:lnTo>
                      <a:pt x="5049" y="5780"/>
                    </a:lnTo>
                    <a:lnTo>
                      <a:pt x="5887" y="5471"/>
                    </a:lnTo>
                    <a:lnTo>
                      <a:pt x="6699" y="5228"/>
                    </a:lnTo>
                    <a:lnTo>
                      <a:pt x="7466" y="4990"/>
                    </a:lnTo>
                    <a:lnTo>
                      <a:pt x="8207" y="4774"/>
                    </a:lnTo>
                    <a:lnTo>
                      <a:pt x="8904" y="4607"/>
                    </a:lnTo>
                    <a:lnTo>
                      <a:pt x="9548" y="4439"/>
                    </a:lnTo>
                    <a:lnTo>
                      <a:pt x="10148" y="4294"/>
                    </a:lnTo>
                    <a:lnTo>
                      <a:pt x="10699" y="4175"/>
                    </a:lnTo>
                    <a:lnTo>
                      <a:pt x="11176" y="4029"/>
                    </a:lnTo>
                    <a:lnTo>
                      <a:pt x="11581" y="3932"/>
                    </a:lnTo>
                    <a:lnTo>
                      <a:pt x="11917" y="3813"/>
                    </a:lnTo>
                    <a:lnTo>
                      <a:pt x="12181" y="3694"/>
                    </a:lnTo>
                    <a:lnTo>
                      <a:pt x="12349" y="3597"/>
                    </a:lnTo>
                    <a:lnTo>
                      <a:pt x="12468" y="3500"/>
                    </a:lnTo>
                    <a:lnTo>
                      <a:pt x="12565" y="3381"/>
                    </a:lnTo>
                    <a:lnTo>
                      <a:pt x="12635" y="3284"/>
                    </a:lnTo>
                    <a:lnTo>
                      <a:pt x="12684" y="3192"/>
                    </a:lnTo>
                    <a:lnTo>
                      <a:pt x="12710" y="3095"/>
                    </a:lnTo>
                    <a:lnTo>
                      <a:pt x="12684" y="2901"/>
                    </a:lnTo>
                    <a:lnTo>
                      <a:pt x="12587" y="2733"/>
                    </a:lnTo>
                    <a:lnTo>
                      <a:pt x="12494" y="2592"/>
                    </a:lnTo>
                    <a:lnTo>
                      <a:pt x="12349" y="2468"/>
                    </a:lnTo>
                    <a:lnTo>
                      <a:pt x="12230" y="2397"/>
                    </a:lnTo>
                    <a:lnTo>
                      <a:pt x="12230" y="2397"/>
                    </a:lnTo>
                    <a:lnTo>
                      <a:pt x="12230" y="2397"/>
                    </a:lnTo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1480" y="4240080"/>
                <a:ext cx="1998720" cy="1287720"/>
              </a:xfrm>
              <a:custGeom>
                <a:avLst/>
                <a:gdLst/>
                <a:ahLst/>
                <a:rect l="l" t="t" r="r" b="b"/>
                <a:pathLst>
                  <a:path w="5551" h="3575">
                    <a:moveTo>
                      <a:pt x="5550" y="2710"/>
                    </a:moveTo>
                    <a:lnTo>
                      <a:pt x="5502" y="2591"/>
                    </a:lnTo>
                    <a:lnTo>
                      <a:pt x="5453" y="2495"/>
                    </a:lnTo>
                    <a:lnTo>
                      <a:pt x="5361" y="2375"/>
                    </a:lnTo>
                    <a:lnTo>
                      <a:pt x="5237" y="2278"/>
                    </a:lnTo>
                    <a:lnTo>
                      <a:pt x="4951" y="2110"/>
                    </a:lnTo>
                    <a:lnTo>
                      <a:pt x="4593" y="1943"/>
                    </a:lnTo>
                    <a:lnTo>
                      <a:pt x="4161" y="1797"/>
                    </a:lnTo>
                    <a:lnTo>
                      <a:pt x="3706" y="1678"/>
                    </a:lnTo>
                    <a:lnTo>
                      <a:pt x="3204" y="1533"/>
                    </a:lnTo>
                    <a:lnTo>
                      <a:pt x="2702" y="1414"/>
                    </a:lnTo>
                    <a:lnTo>
                      <a:pt x="2199" y="1295"/>
                    </a:lnTo>
                    <a:lnTo>
                      <a:pt x="1723" y="1150"/>
                    </a:lnTo>
                    <a:lnTo>
                      <a:pt x="1270" y="1009"/>
                    </a:lnTo>
                    <a:lnTo>
                      <a:pt x="860" y="863"/>
                    </a:lnTo>
                    <a:lnTo>
                      <a:pt x="525" y="669"/>
                    </a:lnTo>
                    <a:lnTo>
                      <a:pt x="237" y="480"/>
                    </a:lnTo>
                    <a:lnTo>
                      <a:pt x="145" y="383"/>
                    </a:lnTo>
                    <a:lnTo>
                      <a:pt x="70" y="264"/>
                    </a:lnTo>
                    <a:lnTo>
                      <a:pt x="22" y="145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48"/>
                    </a:lnTo>
                    <a:lnTo>
                      <a:pt x="0" y="167"/>
                    </a:lnTo>
                    <a:lnTo>
                      <a:pt x="22" y="264"/>
                    </a:lnTo>
                    <a:lnTo>
                      <a:pt x="70" y="383"/>
                    </a:lnTo>
                    <a:lnTo>
                      <a:pt x="145" y="502"/>
                    </a:lnTo>
                    <a:lnTo>
                      <a:pt x="237" y="625"/>
                    </a:lnTo>
                    <a:lnTo>
                      <a:pt x="384" y="766"/>
                    </a:lnTo>
                    <a:lnTo>
                      <a:pt x="551" y="912"/>
                    </a:lnTo>
                    <a:lnTo>
                      <a:pt x="789" y="1057"/>
                    </a:lnTo>
                    <a:lnTo>
                      <a:pt x="1076" y="1224"/>
                    </a:lnTo>
                    <a:lnTo>
                      <a:pt x="1437" y="1365"/>
                    </a:lnTo>
                    <a:lnTo>
                      <a:pt x="1842" y="1533"/>
                    </a:lnTo>
                    <a:lnTo>
                      <a:pt x="2318" y="1678"/>
                    </a:lnTo>
                    <a:lnTo>
                      <a:pt x="2895" y="1824"/>
                    </a:lnTo>
                    <a:lnTo>
                      <a:pt x="3301" y="1916"/>
                    </a:lnTo>
                    <a:lnTo>
                      <a:pt x="3658" y="2040"/>
                    </a:lnTo>
                    <a:lnTo>
                      <a:pt x="3972" y="2159"/>
                    </a:lnTo>
                    <a:lnTo>
                      <a:pt x="4258" y="2256"/>
                    </a:lnTo>
                    <a:lnTo>
                      <a:pt x="4474" y="2375"/>
                    </a:lnTo>
                    <a:lnTo>
                      <a:pt x="4641" y="2495"/>
                    </a:lnTo>
                    <a:lnTo>
                      <a:pt x="4760" y="2613"/>
                    </a:lnTo>
                    <a:lnTo>
                      <a:pt x="4858" y="2732"/>
                    </a:lnTo>
                    <a:lnTo>
                      <a:pt x="4902" y="2856"/>
                    </a:lnTo>
                    <a:lnTo>
                      <a:pt x="4929" y="2975"/>
                    </a:lnTo>
                    <a:lnTo>
                      <a:pt x="4902" y="3072"/>
                    </a:lnTo>
                    <a:lnTo>
                      <a:pt x="4832" y="3191"/>
                    </a:lnTo>
                    <a:lnTo>
                      <a:pt x="4760" y="3288"/>
                    </a:lnTo>
                    <a:lnTo>
                      <a:pt x="4641" y="3380"/>
                    </a:lnTo>
                    <a:lnTo>
                      <a:pt x="4474" y="3477"/>
                    </a:lnTo>
                    <a:lnTo>
                      <a:pt x="4307" y="3574"/>
                    </a:lnTo>
                    <a:lnTo>
                      <a:pt x="4615" y="3477"/>
                    </a:lnTo>
                    <a:lnTo>
                      <a:pt x="4880" y="3380"/>
                    </a:lnTo>
                    <a:lnTo>
                      <a:pt x="5096" y="3288"/>
                    </a:lnTo>
                    <a:lnTo>
                      <a:pt x="5286" y="3191"/>
                    </a:lnTo>
                    <a:lnTo>
                      <a:pt x="5405" y="3094"/>
                    </a:lnTo>
                    <a:lnTo>
                      <a:pt x="5502" y="2975"/>
                    </a:lnTo>
                    <a:lnTo>
                      <a:pt x="5550" y="2856"/>
                    </a:lnTo>
                    <a:lnTo>
                      <a:pt x="5550" y="2710"/>
                    </a:lnTo>
                    <a:lnTo>
                      <a:pt x="5550" y="2710"/>
                    </a:lnTo>
                    <a:lnTo>
                      <a:pt x="5550" y="2710"/>
                    </a:lnTo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5480" y="531324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12565" h="4271">
                    <a:moveTo>
                      <a:pt x="405" y="4222"/>
                    </a:moveTo>
                    <a:lnTo>
                      <a:pt x="0" y="4270"/>
                    </a:lnTo>
                    <a:lnTo>
                      <a:pt x="1724" y="4270"/>
                    </a:lnTo>
                    <a:lnTo>
                      <a:pt x="1914" y="4173"/>
                    </a:lnTo>
                    <a:lnTo>
                      <a:pt x="2130" y="4028"/>
                    </a:lnTo>
                    <a:lnTo>
                      <a:pt x="2443" y="3860"/>
                    </a:lnTo>
                    <a:lnTo>
                      <a:pt x="2800" y="3693"/>
                    </a:lnTo>
                    <a:lnTo>
                      <a:pt x="3206" y="3499"/>
                    </a:lnTo>
                    <a:lnTo>
                      <a:pt x="3687" y="3283"/>
                    </a:lnTo>
                    <a:lnTo>
                      <a:pt x="4238" y="3067"/>
                    </a:lnTo>
                    <a:lnTo>
                      <a:pt x="4860" y="2829"/>
                    </a:lnTo>
                    <a:lnTo>
                      <a:pt x="5552" y="2564"/>
                    </a:lnTo>
                    <a:lnTo>
                      <a:pt x="6320" y="2300"/>
                    </a:lnTo>
                    <a:lnTo>
                      <a:pt x="7157" y="2035"/>
                    </a:lnTo>
                    <a:lnTo>
                      <a:pt x="8066" y="1775"/>
                    </a:lnTo>
                    <a:lnTo>
                      <a:pt x="9071" y="1511"/>
                    </a:lnTo>
                    <a:lnTo>
                      <a:pt x="10147" y="1246"/>
                    </a:lnTo>
                    <a:lnTo>
                      <a:pt x="11321" y="982"/>
                    </a:lnTo>
                    <a:lnTo>
                      <a:pt x="12564" y="718"/>
                    </a:lnTo>
                    <a:lnTo>
                      <a:pt x="12564" y="0"/>
                    </a:lnTo>
                    <a:lnTo>
                      <a:pt x="12423" y="70"/>
                    </a:lnTo>
                    <a:lnTo>
                      <a:pt x="12229" y="145"/>
                    </a:lnTo>
                    <a:lnTo>
                      <a:pt x="11991" y="237"/>
                    </a:lnTo>
                    <a:lnTo>
                      <a:pt x="11678" y="334"/>
                    </a:lnTo>
                    <a:lnTo>
                      <a:pt x="11343" y="431"/>
                    </a:lnTo>
                    <a:lnTo>
                      <a:pt x="10986" y="528"/>
                    </a:lnTo>
                    <a:lnTo>
                      <a:pt x="10580" y="647"/>
                    </a:lnTo>
                    <a:lnTo>
                      <a:pt x="10147" y="744"/>
                    </a:lnTo>
                    <a:lnTo>
                      <a:pt x="9238" y="982"/>
                    </a:lnTo>
                    <a:lnTo>
                      <a:pt x="8330" y="1220"/>
                    </a:lnTo>
                    <a:lnTo>
                      <a:pt x="7444" y="1436"/>
                    </a:lnTo>
                    <a:lnTo>
                      <a:pt x="7012" y="1559"/>
                    </a:lnTo>
                    <a:lnTo>
                      <a:pt x="6628" y="1678"/>
                    </a:lnTo>
                    <a:lnTo>
                      <a:pt x="4882" y="2229"/>
                    </a:lnTo>
                    <a:lnTo>
                      <a:pt x="4022" y="2542"/>
                    </a:lnTo>
                    <a:lnTo>
                      <a:pt x="3206" y="2851"/>
                    </a:lnTo>
                    <a:lnTo>
                      <a:pt x="2416" y="3164"/>
                    </a:lnTo>
                    <a:lnTo>
                      <a:pt x="1676" y="3499"/>
                    </a:lnTo>
                    <a:lnTo>
                      <a:pt x="1005" y="3860"/>
                    </a:lnTo>
                    <a:lnTo>
                      <a:pt x="405" y="4222"/>
                    </a:lnTo>
                    <a:lnTo>
                      <a:pt x="405" y="4222"/>
                    </a:lnTo>
                    <a:lnTo>
                      <a:pt x="405" y="4222"/>
                    </a:lnTo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392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13262" h="9194">
                    <a:moveTo>
                      <a:pt x="6293" y="1944"/>
                    </a:moveTo>
                    <a:lnTo>
                      <a:pt x="6319" y="2090"/>
                    </a:lnTo>
                    <a:lnTo>
                      <a:pt x="6367" y="2209"/>
                    </a:lnTo>
                    <a:lnTo>
                      <a:pt x="6438" y="2328"/>
                    </a:lnTo>
                    <a:lnTo>
                      <a:pt x="6535" y="2425"/>
                    </a:lnTo>
                    <a:lnTo>
                      <a:pt x="6796" y="2614"/>
                    </a:lnTo>
                    <a:lnTo>
                      <a:pt x="7158" y="2808"/>
                    </a:lnTo>
                    <a:lnTo>
                      <a:pt x="7563" y="2954"/>
                    </a:lnTo>
                    <a:lnTo>
                      <a:pt x="8017" y="3095"/>
                    </a:lnTo>
                    <a:lnTo>
                      <a:pt x="8498" y="3240"/>
                    </a:lnTo>
                    <a:lnTo>
                      <a:pt x="9000" y="3359"/>
                    </a:lnTo>
                    <a:lnTo>
                      <a:pt x="9503" y="3478"/>
                    </a:lnTo>
                    <a:lnTo>
                      <a:pt x="10006" y="3624"/>
                    </a:lnTo>
                    <a:lnTo>
                      <a:pt x="10461" y="3743"/>
                    </a:lnTo>
                    <a:lnTo>
                      <a:pt x="10866" y="3888"/>
                    </a:lnTo>
                    <a:lnTo>
                      <a:pt x="11251" y="4056"/>
                    </a:lnTo>
                    <a:lnTo>
                      <a:pt x="11537" y="4223"/>
                    </a:lnTo>
                    <a:lnTo>
                      <a:pt x="11634" y="4320"/>
                    </a:lnTo>
                    <a:lnTo>
                      <a:pt x="11727" y="4440"/>
                    </a:lnTo>
                    <a:lnTo>
                      <a:pt x="11802" y="4537"/>
                    </a:lnTo>
                    <a:lnTo>
                      <a:pt x="11824" y="4656"/>
                    </a:lnTo>
                    <a:lnTo>
                      <a:pt x="11824" y="4775"/>
                    </a:lnTo>
                    <a:lnTo>
                      <a:pt x="11802" y="4872"/>
                    </a:lnTo>
                    <a:lnTo>
                      <a:pt x="11753" y="4969"/>
                    </a:lnTo>
                    <a:lnTo>
                      <a:pt x="11656" y="5066"/>
                    </a:lnTo>
                    <a:lnTo>
                      <a:pt x="11537" y="5159"/>
                    </a:lnTo>
                    <a:lnTo>
                      <a:pt x="11392" y="5234"/>
                    </a:lnTo>
                    <a:lnTo>
                      <a:pt x="11224" y="5326"/>
                    </a:lnTo>
                    <a:lnTo>
                      <a:pt x="11034" y="5401"/>
                    </a:lnTo>
                    <a:lnTo>
                      <a:pt x="10796" y="5472"/>
                    </a:lnTo>
                    <a:lnTo>
                      <a:pt x="10531" y="5542"/>
                    </a:lnTo>
                    <a:lnTo>
                      <a:pt x="10267" y="5617"/>
                    </a:lnTo>
                    <a:lnTo>
                      <a:pt x="9957" y="5688"/>
                    </a:lnTo>
                    <a:lnTo>
                      <a:pt x="9287" y="5855"/>
                    </a:lnTo>
                    <a:lnTo>
                      <a:pt x="8520" y="6049"/>
                    </a:lnTo>
                    <a:lnTo>
                      <a:pt x="7682" y="6265"/>
                    </a:lnTo>
                    <a:lnTo>
                      <a:pt x="6752" y="6503"/>
                    </a:lnTo>
                    <a:lnTo>
                      <a:pt x="5768" y="6790"/>
                    </a:lnTo>
                    <a:lnTo>
                      <a:pt x="4714" y="7129"/>
                    </a:lnTo>
                    <a:lnTo>
                      <a:pt x="3616" y="7535"/>
                    </a:lnTo>
                    <a:lnTo>
                      <a:pt x="2443" y="8016"/>
                    </a:lnTo>
                    <a:lnTo>
                      <a:pt x="1243" y="8567"/>
                    </a:lnTo>
                    <a:lnTo>
                      <a:pt x="0" y="9193"/>
                    </a:lnTo>
                    <a:lnTo>
                      <a:pt x="670" y="9193"/>
                    </a:lnTo>
                    <a:lnTo>
                      <a:pt x="1075" y="9145"/>
                    </a:lnTo>
                    <a:lnTo>
                      <a:pt x="1701" y="8783"/>
                    </a:lnTo>
                    <a:lnTo>
                      <a:pt x="2368" y="8422"/>
                    </a:lnTo>
                    <a:lnTo>
                      <a:pt x="3087" y="8087"/>
                    </a:lnTo>
                    <a:lnTo>
                      <a:pt x="3877" y="7774"/>
                    </a:lnTo>
                    <a:lnTo>
                      <a:pt x="4692" y="7464"/>
                    </a:lnTo>
                    <a:lnTo>
                      <a:pt x="5552" y="7151"/>
                    </a:lnTo>
                    <a:lnTo>
                      <a:pt x="7325" y="6600"/>
                    </a:lnTo>
                    <a:lnTo>
                      <a:pt x="7709" y="6481"/>
                    </a:lnTo>
                    <a:lnTo>
                      <a:pt x="8136" y="6358"/>
                    </a:lnTo>
                    <a:lnTo>
                      <a:pt x="9022" y="6142"/>
                    </a:lnTo>
                    <a:lnTo>
                      <a:pt x="9931" y="5904"/>
                    </a:lnTo>
                    <a:lnTo>
                      <a:pt x="10840" y="5666"/>
                    </a:lnTo>
                    <a:lnTo>
                      <a:pt x="11251" y="5569"/>
                    </a:lnTo>
                    <a:lnTo>
                      <a:pt x="11656" y="5450"/>
                    </a:lnTo>
                    <a:lnTo>
                      <a:pt x="12040" y="5353"/>
                    </a:lnTo>
                    <a:lnTo>
                      <a:pt x="12375" y="5256"/>
                    </a:lnTo>
                    <a:lnTo>
                      <a:pt x="12684" y="5159"/>
                    </a:lnTo>
                    <a:lnTo>
                      <a:pt x="12926" y="5066"/>
                    </a:lnTo>
                    <a:lnTo>
                      <a:pt x="13116" y="4991"/>
                    </a:lnTo>
                    <a:lnTo>
                      <a:pt x="13261" y="4921"/>
                    </a:lnTo>
                    <a:lnTo>
                      <a:pt x="13261" y="3840"/>
                    </a:lnTo>
                    <a:lnTo>
                      <a:pt x="12970" y="3791"/>
                    </a:lnTo>
                    <a:lnTo>
                      <a:pt x="12613" y="3721"/>
                    </a:lnTo>
                    <a:lnTo>
                      <a:pt x="12229" y="3646"/>
                    </a:lnTo>
                    <a:lnTo>
                      <a:pt x="11775" y="3553"/>
                    </a:lnTo>
                    <a:lnTo>
                      <a:pt x="11321" y="3456"/>
                    </a:lnTo>
                    <a:lnTo>
                      <a:pt x="10840" y="3337"/>
                    </a:lnTo>
                    <a:lnTo>
                      <a:pt x="9882" y="3095"/>
                    </a:lnTo>
                    <a:lnTo>
                      <a:pt x="9428" y="2954"/>
                    </a:lnTo>
                    <a:lnTo>
                      <a:pt x="9022" y="2808"/>
                    </a:lnTo>
                    <a:lnTo>
                      <a:pt x="8639" y="2663"/>
                    </a:lnTo>
                    <a:lnTo>
                      <a:pt x="8304" y="2495"/>
                    </a:lnTo>
                    <a:lnTo>
                      <a:pt x="8044" y="2354"/>
                    </a:lnTo>
                    <a:lnTo>
                      <a:pt x="7850" y="2182"/>
                    </a:lnTo>
                    <a:lnTo>
                      <a:pt x="7801" y="2090"/>
                    </a:lnTo>
                    <a:lnTo>
                      <a:pt x="7753" y="2015"/>
                    </a:lnTo>
                    <a:lnTo>
                      <a:pt x="7731" y="1922"/>
                    </a:lnTo>
                    <a:lnTo>
                      <a:pt x="7753" y="1847"/>
                    </a:lnTo>
                    <a:lnTo>
                      <a:pt x="7850" y="1680"/>
                    </a:lnTo>
                    <a:lnTo>
                      <a:pt x="7995" y="1512"/>
                    </a:lnTo>
                    <a:lnTo>
                      <a:pt x="8211" y="1393"/>
                    </a:lnTo>
                    <a:lnTo>
                      <a:pt x="8471" y="1274"/>
                    </a:lnTo>
                    <a:lnTo>
                      <a:pt x="8758" y="1176"/>
                    </a:lnTo>
                    <a:lnTo>
                      <a:pt x="9093" y="1079"/>
                    </a:lnTo>
                    <a:lnTo>
                      <a:pt x="9477" y="1009"/>
                    </a:lnTo>
                    <a:lnTo>
                      <a:pt x="9860" y="938"/>
                    </a:lnTo>
                    <a:lnTo>
                      <a:pt x="10721" y="793"/>
                    </a:lnTo>
                    <a:lnTo>
                      <a:pt x="11586" y="696"/>
                    </a:lnTo>
                    <a:lnTo>
                      <a:pt x="12468" y="550"/>
                    </a:lnTo>
                    <a:lnTo>
                      <a:pt x="12878" y="480"/>
                    </a:lnTo>
                    <a:lnTo>
                      <a:pt x="13261" y="383"/>
                    </a:lnTo>
                    <a:lnTo>
                      <a:pt x="13261" y="0"/>
                    </a:lnTo>
                    <a:lnTo>
                      <a:pt x="12829" y="96"/>
                    </a:lnTo>
                    <a:lnTo>
                      <a:pt x="12326" y="193"/>
                    </a:lnTo>
                    <a:lnTo>
                      <a:pt x="11802" y="290"/>
                    </a:lnTo>
                    <a:lnTo>
                      <a:pt x="11251" y="361"/>
                    </a:lnTo>
                    <a:lnTo>
                      <a:pt x="10076" y="528"/>
                    </a:lnTo>
                    <a:lnTo>
                      <a:pt x="9503" y="599"/>
                    </a:lnTo>
                    <a:lnTo>
                      <a:pt x="8952" y="696"/>
                    </a:lnTo>
                    <a:lnTo>
                      <a:pt x="8401" y="766"/>
                    </a:lnTo>
                    <a:lnTo>
                      <a:pt x="7898" y="890"/>
                    </a:lnTo>
                    <a:lnTo>
                      <a:pt x="7444" y="1009"/>
                    </a:lnTo>
                    <a:lnTo>
                      <a:pt x="7061" y="1150"/>
                    </a:lnTo>
                    <a:lnTo>
                      <a:pt x="6726" y="1323"/>
                    </a:lnTo>
                    <a:lnTo>
                      <a:pt x="6487" y="1490"/>
                    </a:lnTo>
                    <a:lnTo>
                      <a:pt x="6416" y="1583"/>
                    </a:lnTo>
                    <a:lnTo>
                      <a:pt x="6341" y="1706"/>
                    </a:lnTo>
                    <a:lnTo>
                      <a:pt x="6293" y="1825"/>
                    </a:lnTo>
                    <a:lnTo>
                      <a:pt x="6293" y="1944"/>
                    </a:lnTo>
                    <a:lnTo>
                      <a:pt x="6293" y="1944"/>
                    </a:lnTo>
                    <a:lnTo>
                      <a:pt x="6293" y="1944"/>
                    </a:lnTo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70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5502" h="2375">
                    <a:moveTo>
                      <a:pt x="0" y="1463"/>
                    </a:moveTo>
                    <a:lnTo>
                      <a:pt x="0" y="1586"/>
                    </a:lnTo>
                    <a:lnTo>
                      <a:pt x="22" y="1705"/>
                    </a:lnTo>
                    <a:lnTo>
                      <a:pt x="118" y="1824"/>
                    </a:lnTo>
                    <a:lnTo>
                      <a:pt x="237" y="1921"/>
                    </a:lnTo>
                    <a:lnTo>
                      <a:pt x="405" y="2039"/>
                    </a:lnTo>
                    <a:lnTo>
                      <a:pt x="621" y="2158"/>
                    </a:lnTo>
                    <a:lnTo>
                      <a:pt x="859" y="2255"/>
                    </a:lnTo>
                    <a:lnTo>
                      <a:pt x="1123" y="2374"/>
                    </a:lnTo>
                    <a:lnTo>
                      <a:pt x="934" y="2277"/>
                    </a:lnTo>
                    <a:lnTo>
                      <a:pt x="788" y="2158"/>
                    </a:lnTo>
                    <a:lnTo>
                      <a:pt x="691" y="2061"/>
                    </a:lnTo>
                    <a:lnTo>
                      <a:pt x="621" y="1969"/>
                    </a:lnTo>
                    <a:lnTo>
                      <a:pt x="599" y="1872"/>
                    </a:lnTo>
                    <a:lnTo>
                      <a:pt x="599" y="1775"/>
                    </a:lnTo>
                    <a:lnTo>
                      <a:pt x="621" y="1678"/>
                    </a:lnTo>
                    <a:lnTo>
                      <a:pt x="691" y="1608"/>
                    </a:lnTo>
                    <a:lnTo>
                      <a:pt x="788" y="1511"/>
                    </a:lnTo>
                    <a:lnTo>
                      <a:pt x="885" y="1441"/>
                    </a:lnTo>
                    <a:lnTo>
                      <a:pt x="1172" y="1295"/>
                    </a:lnTo>
                    <a:lnTo>
                      <a:pt x="1555" y="1154"/>
                    </a:lnTo>
                    <a:lnTo>
                      <a:pt x="1960" y="1031"/>
                    </a:lnTo>
                    <a:lnTo>
                      <a:pt x="2442" y="938"/>
                    </a:lnTo>
                    <a:lnTo>
                      <a:pt x="2918" y="842"/>
                    </a:lnTo>
                    <a:lnTo>
                      <a:pt x="3923" y="673"/>
                    </a:lnTo>
                    <a:lnTo>
                      <a:pt x="4377" y="598"/>
                    </a:lnTo>
                    <a:lnTo>
                      <a:pt x="4809" y="528"/>
                    </a:lnTo>
                    <a:lnTo>
                      <a:pt x="5193" y="506"/>
                    </a:lnTo>
                    <a:lnTo>
                      <a:pt x="5501" y="457"/>
                    </a:lnTo>
                    <a:lnTo>
                      <a:pt x="5501" y="0"/>
                    </a:lnTo>
                    <a:lnTo>
                      <a:pt x="5118" y="96"/>
                    </a:lnTo>
                    <a:lnTo>
                      <a:pt x="4712" y="167"/>
                    </a:lnTo>
                    <a:lnTo>
                      <a:pt x="3853" y="312"/>
                    </a:lnTo>
                    <a:lnTo>
                      <a:pt x="2966" y="409"/>
                    </a:lnTo>
                    <a:lnTo>
                      <a:pt x="2128" y="554"/>
                    </a:lnTo>
                    <a:lnTo>
                      <a:pt x="1723" y="625"/>
                    </a:lnTo>
                    <a:lnTo>
                      <a:pt x="1361" y="695"/>
                    </a:lnTo>
                    <a:lnTo>
                      <a:pt x="1004" y="792"/>
                    </a:lnTo>
                    <a:lnTo>
                      <a:pt x="718" y="890"/>
                    </a:lnTo>
                    <a:lnTo>
                      <a:pt x="453" y="1009"/>
                    </a:lnTo>
                    <a:lnTo>
                      <a:pt x="237" y="1128"/>
                    </a:lnTo>
                    <a:lnTo>
                      <a:pt x="96" y="1295"/>
                    </a:lnTo>
                    <a:lnTo>
                      <a:pt x="0" y="1463"/>
                    </a:lnTo>
                    <a:lnTo>
                      <a:pt x="0" y="1463"/>
                    </a:lnTo>
                    <a:lnTo>
                      <a:pt x="0" y="1463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30720" y="2236680"/>
                <a:ext cx="3646440" cy="2332080"/>
              </a:xfrm>
              <a:custGeom>
                <a:avLst/>
                <a:gdLst/>
                <a:ahLst/>
                <a:rect l="l" t="t" r="r" b="b"/>
                <a:pathLst>
                  <a:path w="10127" h="6477">
                    <a:moveTo>
                      <a:pt x="3400" y="4796"/>
                    </a:moveTo>
                    <a:lnTo>
                      <a:pt x="4331" y="4677"/>
                    </a:lnTo>
                    <a:lnTo>
                      <a:pt x="5196" y="4558"/>
                    </a:lnTo>
                    <a:lnTo>
                      <a:pt x="5985" y="4461"/>
                    </a:lnTo>
                    <a:lnTo>
                      <a:pt x="6703" y="4342"/>
                    </a:lnTo>
                    <a:lnTo>
                      <a:pt x="7347" y="4218"/>
                    </a:lnTo>
                    <a:lnTo>
                      <a:pt x="7920" y="4099"/>
                    </a:lnTo>
                    <a:lnTo>
                      <a:pt x="8450" y="3954"/>
                    </a:lnTo>
                    <a:lnTo>
                      <a:pt x="8878" y="3835"/>
                    </a:lnTo>
                    <a:lnTo>
                      <a:pt x="9262" y="3668"/>
                    </a:lnTo>
                    <a:lnTo>
                      <a:pt x="9575" y="3526"/>
                    </a:lnTo>
                    <a:lnTo>
                      <a:pt x="9791" y="3333"/>
                    </a:lnTo>
                    <a:lnTo>
                      <a:pt x="9981" y="3139"/>
                    </a:lnTo>
                    <a:lnTo>
                      <a:pt x="10078" y="2949"/>
                    </a:lnTo>
                    <a:lnTo>
                      <a:pt x="10126" y="2707"/>
                    </a:lnTo>
                    <a:lnTo>
                      <a:pt x="10100" y="2469"/>
                    </a:lnTo>
                    <a:lnTo>
                      <a:pt x="10007" y="2204"/>
                    </a:lnTo>
                    <a:lnTo>
                      <a:pt x="9884" y="2015"/>
                    </a:lnTo>
                    <a:lnTo>
                      <a:pt x="9694" y="1799"/>
                    </a:lnTo>
                    <a:lnTo>
                      <a:pt x="9456" y="1605"/>
                    </a:lnTo>
                    <a:lnTo>
                      <a:pt x="9169" y="1414"/>
                    </a:lnTo>
                    <a:lnTo>
                      <a:pt x="8855" y="1220"/>
                    </a:lnTo>
                    <a:lnTo>
                      <a:pt x="8498" y="1031"/>
                    </a:lnTo>
                    <a:lnTo>
                      <a:pt x="7801" y="691"/>
                    </a:lnTo>
                    <a:lnTo>
                      <a:pt x="7444" y="550"/>
                    </a:lnTo>
                    <a:lnTo>
                      <a:pt x="7109" y="405"/>
                    </a:lnTo>
                    <a:lnTo>
                      <a:pt x="6774" y="286"/>
                    </a:lnTo>
                    <a:lnTo>
                      <a:pt x="6509" y="189"/>
                    </a:lnTo>
                    <a:lnTo>
                      <a:pt x="6271" y="119"/>
                    </a:lnTo>
                    <a:lnTo>
                      <a:pt x="6104" y="44"/>
                    </a:lnTo>
                    <a:lnTo>
                      <a:pt x="5985" y="22"/>
                    </a:lnTo>
                    <a:lnTo>
                      <a:pt x="5936" y="0"/>
                    </a:lnTo>
                    <a:lnTo>
                      <a:pt x="6606" y="238"/>
                    </a:lnTo>
                    <a:lnTo>
                      <a:pt x="7298" y="524"/>
                    </a:lnTo>
                    <a:lnTo>
                      <a:pt x="7969" y="815"/>
                    </a:lnTo>
                    <a:lnTo>
                      <a:pt x="8591" y="1123"/>
                    </a:lnTo>
                    <a:lnTo>
                      <a:pt x="8878" y="1269"/>
                    </a:lnTo>
                    <a:lnTo>
                      <a:pt x="9121" y="1436"/>
                    </a:lnTo>
                    <a:lnTo>
                      <a:pt x="9359" y="1605"/>
                    </a:lnTo>
                    <a:lnTo>
                      <a:pt x="9575" y="1772"/>
                    </a:lnTo>
                    <a:lnTo>
                      <a:pt x="9743" y="1940"/>
                    </a:lnTo>
                    <a:lnTo>
                      <a:pt x="9862" y="2107"/>
                    </a:lnTo>
                    <a:lnTo>
                      <a:pt x="9932" y="2301"/>
                    </a:lnTo>
                    <a:lnTo>
                      <a:pt x="9981" y="2469"/>
                    </a:lnTo>
                    <a:lnTo>
                      <a:pt x="9959" y="2636"/>
                    </a:lnTo>
                    <a:lnTo>
                      <a:pt x="9884" y="2804"/>
                    </a:lnTo>
                    <a:lnTo>
                      <a:pt x="9765" y="2949"/>
                    </a:lnTo>
                    <a:lnTo>
                      <a:pt x="9575" y="3095"/>
                    </a:lnTo>
                    <a:lnTo>
                      <a:pt x="9359" y="3214"/>
                    </a:lnTo>
                    <a:lnTo>
                      <a:pt x="9095" y="3333"/>
                    </a:lnTo>
                    <a:lnTo>
                      <a:pt x="8807" y="3430"/>
                    </a:lnTo>
                    <a:lnTo>
                      <a:pt x="8472" y="3526"/>
                    </a:lnTo>
                    <a:lnTo>
                      <a:pt x="8088" y="3619"/>
                    </a:lnTo>
                    <a:lnTo>
                      <a:pt x="7708" y="3716"/>
                    </a:lnTo>
                    <a:lnTo>
                      <a:pt x="6844" y="3861"/>
                    </a:lnTo>
                    <a:lnTo>
                      <a:pt x="5958" y="4002"/>
                    </a:lnTo>
                    <a:lnTo>
                      <a:pt x="5002" y="4148"/>
                    </a:lnTo>
                    <a:lnTo>
                      <a:pt x="4070" y="4267"/>
                    </a:lnTo>
                    <a:lnTo>
                      <a:pt x="3158" y="4386"/>
                    </a:lnTo>
                    <a:lnTo>
                      <a:pt x="2298" y="4531"/>
                    </a:lnTo>
                    <a:lnTo>
                      <a:pt x="1915" y="4602"/>
                    </a:lnTo>
                    <a:lnTo>
                      <a:pt x="1557" y="4699"/>
                    </a:lnTo>
                    <a:lnTo>
                      <a:pt x="1222" y="4769"/>
                    </a:lnTo>
                    <a:lnTo>
                      <a:pt x="909" y="4867"/>
                    </a:lnTo>
                    <a:lnTo>
                      <a:pt x="649" y="4964"/>
                    </a:lnTo>
                    <a:lnTo>
                      <a:pt x="406" y="5061"/>
                    </a:lnTo>
                    <a:lnTo>
                      <a:pt x="239" y="5180"/>
                    </a:lnTo>
                    <a:lnTo>
                      <a:pt x="97" y="5299"/>
                    </a:lnTo>
                    <a:lnTo>
                      <a:pt x="26" y="5418"/>
                    </a:lnTo>
                    <a:lnTo>
                      <a:pt x="0" y="5564"/>
                    </a:lnTo>
                    <a:lnTo>
                      <a:pt x="49" y="5709"/>
                    </a:lnTo>
                    <a:lnTo>
                      <a:pt x="120" y="5850"/>
                    </a:lnTo>
                    <a:lnTo>
                      <a:pt x="239" y="5974"/>
                    </a:lnTo>
                    <a:lnTo>
                      <a:pt x="433" y="6093"/>
                    </a:lnTo>
                    <a:lnTo>
                      <a:pt x="622" y="6190"/>
                    </a:lnTo>
                    <a:lnTo>
                      <a:pt x="865" y="6282"/>
                    </a:lnTo>
                    <a:lnTo>
                      <a:pt x="1151" y="6379"/>
                    </a:lnTo>
                    <a:lnTo>
                      <a:pt x="1438" y="6476"/>
                    </a:lnTo>
                    <a:lnTo>
                      <a:pt x="1173" y="6357"/>
                    </a:lnTo>
                    <a:lnTo>
                      <a:pt x="957" y="6234"/>
                    </a:lnTo>
                    <a:lnTo>
                      <a:pt x="768" y="6115"/>
                    </a:lnTo>
                    <a:lnTo>
                      <a:pt x="649" y="5996"/>
                    </a:lnTo>
                    <a:lnTo>
                      <a:pt x="552" y="5877"/>
                    </a:lnTo>
                    <a:lnTo>
                      <a:pt x="530" y="5758"/>
                    </a:lnTo>
                    <a:lnTo>
                      <a:pt x="552" y="5634"/>
                    </a:lnTo>
                    <a:lnTo>
                      <a:pt x="622" y="5542"/>
                    </a:lnTo>
                    <a:lnTo>
                      <a:pt x="768" y="5418"/>
                    </a:lnTo>
                    <a:lnTo>
                      <a:pt x="935" y="5326"/>
                    </a:lnTo>
                    <a:lnTo>
                      <a:pt x="1200" y="5229"/>
                    </a:lnTo>
                    <a:lnTo>
                      <a:pt x="1508" y="5132"/>
                    </a:lnTo>
                    <a:lnTo>
                      <a:pt x="1866" y="5035"/>
                    </a:lnTo>
                    <a:lnTo>
                      <a:pt x="2325" y="4942"/>
                    </a:lnTo>
                    <a:lnTo>
                      <a:pt x="2827" y="4867"/>
                    </a:lnTo>
                    <a:lnTo>
                      <a:pt x="3400" y="4796"/>
                    </a:lnTo>
                    <a:lnTo>
                      <a:pt x="3400" y="4796"/>
                    </a:lnTo>
                    <a:lnTo>
                      <a:pt x="3400" y="4796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8160" cy="13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788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88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88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88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0760" cy="2817720"/>
            </a:xfrm>
            <a:custGeom>
              <a:avLst/>
              <a:gdLst/>
              <a:ahLst/>
              <a:rect l="l" t="t" r="r" b="b"/>
              <a:pathLst>
                <a:path w="25392" h="7829">
                  <a:moveTo>
                    <a:pt x="0" y="0"/>
                  </a:moveTo>
                  <a:lnTo>
                    <a:pt x="0" y="7828"/>
                  </a:lnTo>
                  <a:lnTo>
                    <a:pt x="25391" y="7828"/>
                  </a:lnTo>
                  <a:lnTo>
                    <a:pt x="2539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743200" y="2236680"/>
              <a:ext cx="6394320" cy="4614840"/>
              <a:chOff x="2743200" y="2236680"/>
              <a:chExt cx="6394320" cy="461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12711" h="7368">
                    <a:moveTo>
                      <a:pt x="12230" y="2397"/>
                    </a:moveTo>
                    <a:lnTo>
                      <a:pt x="12084" y="2327"/>
                    </a:lnTo>
                    <a:lnTo>
                      <a:pt x="11872" y="2230"/>
                    </a:lnTo>
                    <a:lnTo>
                      <a:pt x="11608" y="2133"/>
                    </a:lnTo>
                    <a:lnTo>
                      <a:pt x="11295" y="2014"/>
                    </a:lnTo>
                    <a:lnTo>
                      <a:pt x="10937" y="1868"/>
                    </a:lnTo>
                    <a:lnTo>
                      <a:pt x="10531" y="1749"/>
                    </a:lnTo>
                    <a:lnTo>
                      <a:pt x="9716" y="1511"/>
                    </a:lnTo>
                    <a:lnTo>
                      <a:pt x="9165" y="1366"/>
                    </a:lnTo>
                    <a:lnTo>
                      <a:pt x="8688" y="1220"/>
                    </a:lnTo>
                    <a:lnTo>
                      <a:pt x="8283" y="1079"/>
                    </a:lnTo>
                    <a:lnTo>
                      <a:pt x="7969" y="934"/>
                    </a:lnTo>
                    <a:lnTo>
                      <a:pt x="7682" y="789"/>
                    </a:lnTo>
                    <a:lnTo>
                      <a:pt x="7466" y="670"/>
                    </a:lnTo>
                    <a:lnTo>
                      <a:pt x="7299" y="550"/>
                    </a:lnTo>
                    <a:lnTo>
                      <a:pt x="7180" y="454"/>
                    </a:lnTo>
                    <a:lnTo>
                      <a:pt x="7083" y="357"/>
                    </a:lnTo>
                    <a:lnTo>
                      <a:pt x="7012" y="264"/>
                    </a:lnTo>
                    <a:lnTo>
                      <a:pt x="6990" y="189"/>
                    </a:lnTo>
                    <a:lnTo>
                      <a:pt x="6964" y="119"/>
                    </a:lnTo>
                    <a:lnTo>
                      <a:pt x="6990" y="22"/>
                    </a:lnTo>
                    <a:lnTo>
                      <a:pt x="6990" y="0"/>
                    </a:lnTo>
                    <a:lnTo>
                      <a:pt x="6915" y="119"/>
                    </a:lnTo>
                    <a:lnTo>
                      <a:pt x="6867" y="215"/>
                    </a:lnTo>
                    <a:lnTo>
                      <a:pt x="6867" y="335"/>
                    </a:lnTo>
                    <a:lnTo>
                      <a:pt x="6915" y="431"/>
                    </a:lnTo>
                    <a:lnTo>
                      <a:pt x="7012" y="528"/>
                    </a:lnTo>
                    <a:lnTo>
                      <a:pt x="7131" y="621"/>
                    </a:lnTo>
                    <a:lnTo>
                      <a:pt x="7277" y="718"/>
                    </a:lnTo>
                    <a:lnTo>
                      <a:pt x="7444" y="815"/>
                    </a:lnTo>
                    <a:lnTo>
                      <a:pt x="7660" y="912"/>
                    </a:lnTo>
                    <a:lnTo>
                      <a:pt x="7898" y="1005"/>
                    </a:lnTo>
                    <a:lnTo>
                      <a:pt x="8402" y="1176"/>
                    </a:lnTo>
                    <a:lnTo>
                      <a:pt x="8997" y="1366"/>
                    </a:lnTo>
                    <a:lnTo>
                      <a:pt x="9623" y="1533"/>
                    </a:lnTo>
                    <a:lnTo>
                      <a:pt x="10077" y="1679"/>
                    </a:lnTo>
                    <a:lnTo>
                      <a:pt x="10505" y="1798"/>
                    </a:lnTo>
                    <a:lnTo>
                      <a:pt x="10866" y="1917"/>
                    </a:lnTo>
                    <a:lnTo>
                      <a:pt x="11202" y="2036"/>
                    </a:lnTo>
                    <a:lnTo>
                      <a:pt x="11489" y="2133"/>
                    </a:lnTo>
                    <a:lnTo>
                      <a:pt x="11727" y="2230"/>
                    </a:lnTo>
                    <a:lnTo>
                      <a:pt x="11943" y="2327"/>
                    </a:lnTo>
                    <a:lnTo>
                      <a:pt x="12084" y="2397"/>
                    </a:lnTo>
                    <a:lnTo>
                      <a:pt x="12208" y="2468"/>
                    </a:lnTo>
                    <a:lnTo>
                      <a:pt x="12278" y="2543"/>
                    </a:lnTo>
                    <a:lnTo>
                      <a:pt x="12327" y="2614"/>
                    </a:lnTo>
                    <a:lnTo>
                      <a:pt x="12349" y="2711"/>
                    </a:lnTo>
                    <a:lnTo>
                      <a:pt x="12327" y="2830"/>
                    </a:lnTo>
                    <a:lnTo>
                      <a:pt x="12278" y="2927"/>
                    </a:lnTo>
                    <a:lnTo>
                      <a:pt x="12181" y="3046"/>
                    </a:lnTo>
                    <a:lnTo>
                      <a:pt x="12040" y="3143"/>
                    </a:lnTo>
                    <a:lnTo>
                      <a:pt x="11872" y="3240"/>
                    </a:lnTo>
                    <a:lnTo>
                      <a:pt x="11656" y="3333"/>
                    </a:lnTo>
                    <a:lnTo>
                      <a:pt x="11418" y="3430"/>
                    </a:lnTo>
                    <a:lnTo>
                      <a:pt x="11154" y="3527"/>
                    </a:lnTo>
                    <a:lnTo>
                      <a:pt x="10840" y="3624"/>
                    </a:lnTo>
                    <a:lnTo>
                      <a:pt x="10505" y="3716"/>
                    </a:lnTo>
                    <a:lnTo>
                      <a:pt x="10148" y="3813"/>
                    </a:lnTo>
                    <a:lnTo>
                      <a:pt x="9764" y="3910"/>
                    </a:lnTo>
                    <a:lnTo>
                      <a:pt x="8953" y="4100"/>
                    </a:lnTo>
                    <a:lnTo>
                      <a:pt x="8039" y="4316"/>
                    </a:lnTo>
                    <a:lnTo>
                      <a:pt x="7083" y="4558"/>
                    </a:lnTo>
                    <a:lnTo>
                      <a:pt x="6077" y="4823"/>
                    </a:lnTo>
                    <a:lnTo>
                      <a:pt x="5049" y="5131"/>
                    </a:lnTo>
                    <a:lnTo>
                      <a:pt x="4022" y="5471"/>
                    </a:lnTo>
                    <a:lnTo>
                      <a:pt x="2968" y="5855"/>
                    </a:lnTo>
                    <a:lnTo>
                      <a:pt x="1940" y="6309"/>
                    </a:lnTo>
                    <a:lnTo>
                      <a:pt x="956" y="6812"/>
                    </a:lnTo>
                    <a:lnTo>
                      <a:pt x="0" y="7367"/>
                    </a:lnTo>
                    <a:lnTo>
                      <a:pt x="1556" y="7367"/>
                    </a:lnTo>
                    <a:lnTo>
                      <a:pt x="2444" y="6909"/>
                    </a:lnTo>
                    <a:lnTo>
                      <a:pt x="3326" y="6477"/>
                    </a:lnTo>
                    <a:lnTo>
                      <a:pt x="4212" y="6120"/>
                    </a:lnTo>
                    <a:lnTo>
                      <a:pt x="5049" y="5780"/>
                    </a:lnTo>
                    <a:lnTo>
                      <a:pt x="5887" y="5471"/>
                    </a:lnTo>
                    <a:lnTo>
                      <a:pt x="6699" y="5228"/>
                    </a:lnTo>
                    <a:lnTo>
                      <a:pt x="7466" y="4990"/>
                    </a:lnTo>
                    <a:lnTo>
                      <a:pt x="8207" y="4774"/>
                    </a:lnTo>
                    <a:lnTo>
                      <a:pt x="8904" y="4607"/>
                    </a:lnTo>
                    <a:lnTo>
                      <a:pt x="9548" y="4439"/>
                    </a:lnTo>
                    <a:lnTo>
                      <a:pt x="10148" y="4294"/>
                    </a:lnTo>
                    <a:lnTo>
                      <a:pt x="10699" y="4175"/>
                    </a:lnTo>
                    <a:lnTo>
                      <a:pt x="11176" y="4029"/>
                    </a:lnTo>
                    <a:lnTo>
                      <a:pt x="11581" y="3932"/>
                    </a:lnTo>
                    <a:lnTo>
                      <a:pt x="11917" y="3813"/>
                    </a:lnTo>
                    <a:lnTo>
                      <a:pt x="12181" y="3694"/>
                    </a:lnTo>
                    <a:lnTo>
                      <a:pt x="12349" y="3597"/>
                    </a:lnTo>
                    <a:lnTo>
                      <a:pt x="12468" y="3500"/>
                    </a:lnTo>
                    <a:lnTo>
                      <a:pt x="12565" y="3381"/>
                    </a:lnTo>
                    <a:lnTo>
                      <a:pt x="12635" y="3284"/>
                    </a:lnTo>
                    <a:lnTo>
                      <a:pt x="12684" y="3192"/>
                    </a:lnTo>
                    <a:lnTo>
                      <a:pt x="12710" y="3095"/>
                    </a:lnTo>
                    <a:lnTo>
                      <a:pt x="12684" y="2901"/>
                    </a:lnTo>
                    <a:lnTo>
                      <a:pt x="12587" y="2733"/>
                    </a:lnTo>
                    <a:lnTo>
                      <a:pt x="12494" y="2592"/>
                    </a:lnTo>
                    <a:lnTo>
                      <a:pt x="12349" y="2468"/>
                    </a:lnTo>
                    <a:lnTo>
                      <a:pt x="12230" y="2397"/>
                    </a:lnTo>
                    <a:lnTo>
                      <a:pt x="12230" y="2397"/>
                    </a:lnTo>
                    <a:lnTo>
                      <a:pt x="12230" y="2397"/>
                    </a:lnTo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1480" y="4240080"/>
                <a:ext cx="1998720" cy="1287720"/>
              </a:xfrm>
              <a:custGeom>
                <a:avLst/>
                <a:gdLst/>
                <a:ahLst/>
                <a:rect l="l" t="t" r="r" b="b"/>
                <a:pathLst>
                  <a:path w="5551" h="3575">
                    <a:moveTo>
                      <a:pt x="5550" y="2710"/>
                    </a:moveTo>
                    <a:lnTo>
                      <a:pt x="5502" y="2591"/>
                    </a:lnTo>
                    <a:lnTo>
                      <a:pt x="5453" y="2495"/>
                    </a:lnTo>
                    <a:lnTo>
                      <a:pt x="5361" y="2375"/>
                    </a:lnTo>
                    <a:lnTo>
                      <a:pt x="5237" y="2278"/>
                    </a:lnTo>
                    <a:lnTo>
                      <a:pt x="4951" y="2110"/>
                    </a:lnTo>
                    <a:lnTo>
                      <a:pt x="4593" y="1943"/>
                    </a:lnTo>
                    <a:lnTo>
                      <a:pt x="4161" y="1797"/>
                    </a:lnTo>
                    <a:lnTo>
                      <a:pt x="3706" y="1678"/>
                    </a:lnTo>
                    <a:lnTo>
                      <a:pt x="3204" y="1533"/>
                    </a:lnTo>
                    <a:lnTo>
                      <a:pt x="2702" y="1414"/>
                    </a:lnTo>
                    <a:lnTo>
                      <a:pt x="2199" y="1295"/>
                    </a:lnTo>
                    <a:lnTo>
                      <a:pt x="1723" y="1150"/>
                    </a:lnTo>
                    <a:lnTo>
                      <a:pt x="1270" y="1009"/>
                    </a:lnTo>
                    <a:lnTo>
                      <a:pt x="860" y="863"/>
                    </a:lnTo>
                    <a:lnTo>
                      <a:pt x="525" y="669"/>
                    </a:lnTo>
                    <a:lnTo>
                      <a:pt x="237" y="480"/>
                    </a:lnTo>
                    <a:lnTo>
                      <a:pt x="145" y="383"/>
                    </a:lnTo>
                    <a:lnTo>
                      <a:pt x="70" y="264"/>
                    </a:lnTo>
                    <a:lnTo>
                      <a:pt x="22" y="145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0" y="48"/>
                    </a:lnTo>
                    <a:lnTo>
                      <a:pt x="0" y="167"/>
                    </a:lnTo>
                    <a:lnTo>
                      <a:pt x="22" y="264"/>
                    </a:lnTo>
                    <a:lnTo>
                      <a:pt x="70" y="383"/>
                    </a:lnTo>
                    <a:lnTo>
                      <a:pt x="145" y="502"/>
                    </a:lnTo>
                    <a:lnTo>
                      <a:pt x="237" y="625"/>
                    </a:lnTo>
                    <a:lnTo>
                      <a:pt x="384" y="766"/>
                    </a:lnTo>
                    <a:lnTo>
                      <a:pt x="551" y="912"/>
                    </a:lnTo>
                    <a:lnTo>
                      <a:pt x="789" y="1057"/>
                    </a:lnTo>
                    <a:lnTo>
                      <a:pt x="1076" y="1224"/>
                    </a:lnTo>
                    <a:lnTo>
                      <a:pt x="1437" y="1365"/>
                    </a:lnTo>
                    <a:lnTo>
                      <a:pt x="1842" y="1533"/>
                    </a:lnTo>
                    <a:lnTo>
                      <a:pt x="2318" y="1678"/>
                    </a:lnTo>
                    <a:lnTo>
                      <a:pt x="2895" y="1824"/>
                    </a:lnTo>
                    <a:lnTo>
                      <a:pt x="3301" y="1916"/>
                    </a:lnTo>
                    <a:lnTo>
                      <a:pt x="3658" y="2040"/>
                    </a:lnTo>
                    <a:lnTo>
                      <a:pt x="3972" y="2159"/>
                    </a:lnTo>
                    <a:lnTo>
                      <a:pt x="4258" y="2256"/>
                    </a:lnTo>
                    <a:lnTo>
                      <a:pt x="4474" y="2375"/>
                    </a:lnTo>
                    <a:lnTo>
                      <a:pt x="4641" y="2495"/>
                    </a:lnTo>
                    <a:lnTo>
                      <a:pt x="4760" y="2613"/>
                    </a:lnTo>
                    <a:lnTo>
                      <a:pt x="4858" y="2732"/>
                    </a:lnTo>
                    <a:lnTo>
                      <a:pt x="4902" y="2856"/>
                    </a:lnTo>
                    <a:lnTo>
                      <a:pt x="4929" y="2975"/>
                    </a:lnTo>
                    <a:lnTo>
                      <a:pt x="4902" y="3072"/>
                    </a:lnTo>
                    <a:lnTo>
                      <a:pt x="4832" y="3191"/>
                    </a:lnTo>
                    <a:lnTo>
                      <a:pt x="4760" y="3288"/>
                    </a:lnTo>
                    <a:lnTo>
                      <a:pt x="4641" y="3380"/>
                    </a:lnTo>
                    <a:lnTo>
                      <a:pt x="4474" y="3477"/>
                    </a:lnTo>
                    <a:lnTo>
                      <a:pt x="4307" y="3574"/>
                    </a:lnTo>
                    <a:lnTo>
                      <a:pt x="4615" y="3477"/>
                    </a:lnTo>
                    <a:lnTo>
                      <a:pt x="4880" y="3380"/>
                    </a:lnTo>
                    <a:lnTo>
                      <a:pt x="5096" y="3288"/>
                    </a:lnTo>
                    <a:lnTo>
                      <a:pt x="5286" y="3191"/>
                    </a:lnTo>
                    <a:lnTo>
                      <a:pt x="5405" y="3094"/>
                    </a:lnTo>
                    <a:lnTo>
                      <a:pt x="5502" y="2975"/>
                    </a:lnTo>
                    <a:lnTo>
                      <a:pt x="5550" y="2856"/>
                    </a:lnTo>
                    <a:lnTo>
                      <a:pt x="5550" y="2710"/>
                    </a:lnTo>
                    <a:lnTo>
                      <a:pt x="5550" y="2710"/>
                    </a:lnTo>
                    <a:lnTo>
                      <a:pt x="5550" y="2710"/>
                    </a:lnTo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5480" y="531324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12565" h="4271">
                    <a:moveTo>
                      <a:pt x="405" y="4222"/>
                    </a:moveTo>
                    <a:lnTo>
                      <a:pt x="0" y="4270"/>
                    </a:lnTo>
                    <a:lnTo>
                      <a:pt x="1724" y="4270"/>
                    </a:lnTo>
                    <a:lnTo>
                      <a:pt x="1914" y="4173"/>
                    </a:lnTo>
                    <a:lnTo>
                      <a:pt x="2130" y="4028"/>
                    </a:lnTo>
                    <a:lnTo>
                      <a:pt x="2443" y="3860"/>
                    </a:lnTo>
                    <a:lnTo>
                      <a:pt x="2800" y="3693"/>
                    </a:lnTo>
                    <a:lnTo>
                      <a:pt x="3206" y="3499"/>
                    </a:lnTo>
                    <a:lnTo>
                      <a:pt x="3687" y="3283"/>
                    </a:lnTo>
                    <a:lnTo>
                      <a:pt x="4238" y="3067"/>
                    </a:lnTo>
                    <a:lnTo>
                      <a:pt x="4860" y="2829"/>
                    </a:lnTo>
                    <a:lnTo>
                      <a:pt x="5552" y="2564"/>
                    </a:lnTo>
                    <a:lnTo>
                      <a:pt x="6320" y="2300"/>
                    </a:lnTo>
                    <a:lnTo>
                      <a:pt x="7157" y="2035"/>
                    </a:lnTo>
                    <a:lnTo>
                      <a:pt x="8066" y="1775"/>
                    </a:lnTo>
                    <a:lnTo>
                      <a:pt x="9071" y="1511"/>
                    </a:lnTo>
                    <a:lnTo>
                      <a:pt x="10147" y="1246"/>
                    </a:lnTo>
                    <a:lnTo>
                      <a:pt x="11321" y="982"/>
                    </a:lnTo>
                    <a:lnTo>
                      <a:pt x="12564" y="718"/>
                    </a:lnTo>
                    <a:lnTo>
                      <a:pt x="12564" y="0"/>
                    </a:lnTo>
                    <a:lnTo>
                      <a:pt x="12423" y="70"/>
                    </a:lnTo>
                    <a:lnTo>
                      <a:pt x="12229" y="145"/>
                    </a:lnTo>
                    <a:lnTo>
                      <a:pt x="11991" y="237"/>
                    </a:lnTo>
                    <a:lnTo>
                      <a:pt x="11678" y="334"/>
                    </a:lnTo>
                    <a:lnTo>
                      <a:pt x="11343" y="431"/>
                    </a:lnTo>
                    <a:lnTo>
                      <a:pt x="10986" y="528"/>
                    </a:lnTo>
                    <a:lnTo>
                      <a:pt x="10580" y="647"/>
                    </a:lnTo>
                    <a:lnTo>
                      <a:pt x="10147" y="744"/>
                    </a:lnTo>
                    <a:lnTo>
                      <a:pt x="9238" y="982"/>
                    </a:lnTo>
                    <a:lnTo>
                      <a:pt x="8330" y="1220"/>
                    </a:lnTo>
                    <a:lnTo>
                      <a:pt x="7444" y="1436"/>
                    </a:lnTo>
                    <a:lnTo>
                      <a:pt x="7012" y="1559"/>
                    </a:lnTo>
                    <a:lnTo>
                      <a:pt x="6628" y="1678"/>
                    </a:lnTo>
                    <a:lnTo>
                      <a:pt x="4882" y="2229"/>
                    </a:lnTo>
                    <a:lnTo>
                      <a:pt x="4022" y="2542"/>
                    </a:lnTo>
                    <a:lnTo>
                      <a:pt x="3206" y="2851"/>
                    </a:lnTo>
                    <a:lnTo>
                      <a:pt x="2416" y="3164"/>
                    </a:lnTo>
                    <a:lnTo>
                      <a:pt x="1676" y="3499"/>
                    </a:lnTo>
                    <a:lnTo>
                      <a:pt x="1005" y="3860"/>
                    </a:lnTo>
                    <a:lnTo>
                      <a:pt x="405" y="4222"/>
                    </a:lnTo>
                    <a:lnTo>
                      <a:pt x="405" y="4222"/>
                    </a:lnTo>
                    <a:lnTo>
                      <a:pt x="405" y="4222"/>
                    </a:lnTo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392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13262" h="9194">
                    <a:moveTo>
                      <a:pt x="6293" y="1944"/>
                    </a:moveTo>
                    <a:lnTo>
                      <a:pt x="6319" y="2090"/>
                    </a:lnTo>
                    <a:lnTo>
                      <a:pt x="6367" y="2209"/>
                    </a:lnTo>
                    <a:lnTo>
                      <a:pt x="6438" y="2328"/>
                    </a:lnTo>
                    <a:lnTo>
                      <a:pt x="6535" y="2425"/>
                    </a:lnTo>
                    <a:lnTo>
                      <a:pt x="6796" y="2614"/>
                    </a:lnTo>
                    <a:lnTo>
                      <a:pt x="7158" y="2808"/>
                    </a:lnTo>
                    <a:lnTo>
                      <a:pt x="7563" y="2954"/>
                    </a:lnTo>
                    <a:lnTo>
                      <a:pt x="8017" y="3095"/>
                    </a:lnTo>
                    <a:lnTo>
                      <a:pt x="8498" y="3240"/>
                    </a:lnTo>
                    <a:lnTo>
                      <a:pt x="9000" y="3359"/>
                    </a:lnTo>
                    <a:lnTo>
                      <a:pt x="9503" y="3478"/>
                    </a:lnTo>
                    <a:lnTo>
                      <a:pt x="10006" y="3624"/>
                    </a:lnTo>
                    <a:lnTo>
                      <a:pt x="10461" y="3743"/>
                    </a:lnTo>
                    <a:lnTo>
                      <a:pt x="10866" y="3888"/>
                    </a:lnTo>
                    <a:lnTo>
                      <a:pt x="11251" y="4056"/>
                    </a:lnTo>
                    <a:lnTo>
                      <a:pt x="11537" y="4223"/>
                    </a:lnTo>
                    <a:lnTo>
                      <a:pt x="11634" y="4320"/>
                    </a:lnTo>
                    <a:lnTo>
                      <a:pt x="11727" y="4440"/>
                    </a:lnTo>
                    <a:lnTo>
                      <a:pt x="11802" y="4537"/>
                    </a:lnTo>
                    <a:lnTo>
                      <a:pt x="11824" y="4656"/>
                    </a:lnTo>
                    <a:lnTo>
                      <a:pt x="11824" y="4775"/>
                    </a:lnTo>
                    <a:lnTo>
                      <a:pt x="11802" y="4872"/>
                    </a:lnTo>
                    <a:lnTo>
                      <a:pt x="11753" y="4969"/>
                    </a:lnTo>
                    <a:lnTo>
                      <a:pt x="11656" y="5066"/>
                    </a:lnTo>
                    <a:lnTo>
                      <a:pt x="11537" y="5159"/>
                    </a:lnTo>
                    <a:lnTo>
                      <a:pt x="11392" y="5234"/>
                    </a:lnTo>
                    <a:lnTo>
                      <a:pt x="11224" y="5326"/>
                    </a:lnTo>
                    <a:lnTo>
                      <a:pt x="11034" y="5401"/>
                    </a:lnTo>
                    <a:lnTo>
                      <a:pt x="10796" y="5472"/>
                    </a:lnTo>
                    <a:lnTo>
                      <a:pt x="10531" y="5542"/>
                    </a:lnTo>
                    <a:lnTo>
                      <a:pt x="10267" y="5617"/>
                    </a:lnTo>
                    <a:lnTo>
                      <a:pt x="9957" y="5688"/>
                    </a:lnTo>
                    <a:lnTo>
                      <a:pt x="9287" y="5855"/>
                    </a:lnTo>
                    <a:lnTo>
                      <a:pt x="8520" y="6049"/>
                    </a:lnTo>
                    <a:lnTo>
                      <a:pt x="7682" y="6265"/>
                    </a:lnTo>
                    <a:lnTo>
                      <a:pt x="6752" y="6503"/>
                    </a:lnTo>
                    <a:lnTo>
                      <a:pt x="5768" y="6790"/>
                    </a:lnTo>
                    <a:lnTo>
                      <a:pt x="4714" y="7129"/>
                    </a:lnTo>
                    <a:lnTo>
                      <a:pt x="3616" y="7535"/>
                    </a:lnTo>
                    <a:lnTo>
                      <a:pt x="2443" y="8016"/>
                    </a:lnTo>
                    <a:lnTo>
                      <a:pt x="1243" y="8567"/>
                    </a:lnTo>
                    <a:lnTo>
                      <a:pt x="0" y="9193"/>
                    </a:lnTo>
                    <a:lnTo>
                      <a:pt x="670" y="9193"/>
                    </a:lnTo>
                    <a:lnTo>
                      <a:pt x="1075" y="9145"/>
                    </a:lnTo>
                    <a:lnTo>
                      <a:pt x="1701" y="8783"/>
                    </a:lnTo>
                    <a:lnTo>
                      <a:pt x="2368" y="8422"/>
                    </a:lnTo>
                    <a:lnTo>
                      <a:pt x="3087" y="8087"/>
                    </a:lnTo>
                    <a:lnTo>
                      <a:pt x="3877" y="7774"/>
                    </a:lnTo>
                    <a:lnTo>
                      <a:pt x="4692" y="7464"/>
                    </a:lnTo>
                    <a:lnTo>
                      <a:pt x="5552" y="7151"/>
                    </a:lnTo>
                    <a:lnTo>
                      <a:pt x="7325" y="6600"/>
                    </a:lnTo>
                    <a:lnTo>
                      <a:pt x="7709" y="6481"/>
                    </a:lnTo>
                    <a:lnTo>
                      <a:pt x="8136" y="6358"/>
                    </a:lnTo>
                    <a:lnTo>
                      <a:pt x="9022" y="6142"/>
                    </a:lnTo>
                    <a:lnTo>
                      <a:pt x="9931" y="5904"/>
                    </a:lnTo>
                    <a:lnTo>
                      <a:pt x="10840" y="5666"/>
                    </a:lnTo>
                    <a:lnTo>
                      <a:pt x="11251" y="5569"/>
                    </a:lnTo>
                    <a:lnTo>
                      <a:pt x="11656" y="5450"/>
                    </a:lnTo>
                    <a:lnTo>
                      <a:pt x="12040" y="5353"/>
                    </a:lnTo>
                    <a:lnTo>
                      <a:pt x="12375" y="5256"/>
                    </a:lnTo>
                    <a:lnTo>
                      <a:pt x="12684" y="5159"/>
                    </a:lnTo>
                    <a:lnTo>
                      <a:pt x="12926" y="5066"/>
                    </a:lnTo>
                    <a:lnTo>
                      <a:pt x="13116" y="4991"/>
                    </a:lnTo>
                    <a:lnTo>
                      <a:pt x="13261" y="4921"/>
                    </a:lnTo>
                    <a:lnTo>
                      <a:pt x="13261" y="3840"/>
                    </a:lnTo>
                    <a:lnTo>
                      <a:pt x="12970" y="3791"/>
                    </a:lnTo>
                    <a:lnTo>
                      <a:pt x="12613" y="3721"/>
                    </a:lnTo>
                    <a:lnTo>
                      <a:pt x="12229" y="3646"/>
                    </a:lnTo>
                    <a:lnTo>
                      <a:pt x="11775" y="3553"/>
                    </a:lnTo>
                    <a:lnTo>
                      <a:pt x="11321" y="3456"/>
                    </a:lnTo>
                    <a:lnTo>
                      <a:pt x="10840" y="3337"/>
                    </a:lnTo>
                    <a:lnTo>
                      <a:pt x="9882" y="3095"/>
                    </a:lnTo>
                    <a:lnTo>
                      <a:pt x="9428" y="2954"/>
                    </a:lnTo>
                    <a:lnTo>
                      <a:pt x="9022" y="2808"/>
                    </a:lnTo>
                    <a:lnTo>
                      <a:pt x="8639" y="2663"/>
                    </a:lnTo>
                    <a:lnTo>
                      <a:pt x="8304" y="2495"/>
                    </a:lnTo>
                    <a:lnTo>
                      <a:pt x="8044" y="2354"/>
                    </a:lnTo>
                    <a:lnTo>
                      <a:pt x="7850" y="2182"/>
                    </a:lnTo>
                    <a:lnTo>
                      <a:pt x="7801" y="2090"/>
                    </a:lnTo>
                    <a:lnTo>
                      <a:pt x="7753" y="2015"/>
                    </a:lnTo>
                    <a:lnTo>
                      <a:pt x="7731" y="1922"/>
                    </a:lnTo>
                    <a:lnTo>
                      <a:pt x="7753" y="1847"/>
                    </a:lnTo>
                    <a:lnTo>
                      <a:pt x="7850" y="1680"/>
                    </a:lnTo>
                    <a:lnTo>
                      <a:pt x="7995" y="1512"/>
                    </a:lnTo>
                    <a:lnTo>
                      <a:pt x="8211" y="1393"/>
                    </a:lnTo>
                    <a:lnTo>
                      <a:pt x="8471" y="1274"/>
                    </a:lnTo>
                    <a:lnTo>
                      <a:pt x="8758" y="1176"/>
                    </a:lnTo>
                    <a:lnTo>
                      <a:pt x="9093" y="1079"/>
                    </a:lnTo>
                    <a:lnTo>
                      <a:pt x="9477" y="1009"/>
                    </a:lnTo>
                    <a:lnTo>
                      <a:pt x="9860" y="938"/>
                    </a:lnTo>
                    <a:lnTo>
                      <a:pt x="10721" y="793"/>
                    </a:lnTo>
                    <a:lnTo>
                      <a:pt x="11586" y="696"/>
                    </a:lnTo>
                    <a:lnTo>
                      <a:pt x="12468" y="550"/>
                    </a:lnTo>
                    <a:lnTo>
                      <a:pt x="12878" y="480"/>
                    </a:lnTo>
                    <a:lnTo>
                      <a:pt x="13261" y="383"/>
                    </a:lnTo>
                    <a:lnTo>
                      <a:pt x="13261" y="0"/>
                    </a:lnTo>
                    <a:lnTo>
                      <a:pt x="12829" y="96"/>
                    </a:lnTo>
                    <a:lnTo>
                      <a:pt x="12326" y="193"/>
                    </a:lnTo>
                    <a:lnTo>
                      <a:pt x="11802" y="290"/>
                    </a:lnTo>
                    <a:lnTo>
                      <a:pt x="11251" y="361"/>
                    </a:lnTo>
                    <a:lnTo>
                      <a:pt x="10076" y="528"/>
                    </a:lnTo>
                    <a:lnTo>
                      <a:pt x="9503" y="599"/>
                    </a:lnTo>
                    <a:lnTo>
                      <a:pt x="8952" y="696"/>
                    </a:lnTo>
                    <a:lnTo>
                      <a:pt x="8401" y="766"/>
                    </a:lnTo>
                    <a:lnTo>
                      <a:pt x="7898" y="890"/>
                    </a:lnTo>
                    <a:lnTo>
                      <a:pt x="7444" y="1009"/>
                    </a:lnTo>
                    <a:lnTo>
                      <a:pt x="7061" y="1150"/>
                    </a:lnTo>
                    <a:lnTo>
                      <a:pt x="6726" y="1323"/>
                    </a:lnTo>
                    <a:lnTo>
                      <a:pt x="6487" y="1490"/>
                    </a:lnTo>
                    <a:lnTo>
                      <a:pt x="6416" y="1583"/>
                    </a:lnTo>
                    <a:lnTo>
                      <a:pt x="6341" y="1706"/>
                    </a:lnTo>
                    <a:lnTo>
                      <a:pt x="6293" y="1825"/>
                    </a:lnTo>
                    <a:lnTo>
                      <a:pt x="6293" y="1944"/>
                    </a:lnTo>
                    <a:lnTo>
                      <a:pt x="6293" y="1944"/>
                    </a:lnTo>
                    <a:lnTo>
                      <a:pt x="6293" y="1944"/>
                    </a:lnTo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70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5502" h="2375">
                    <a:moveTo>
                      <a:pt x="0" y="1463"/>
                    </a:moveTo>
                    <a:lnTo>
                      <a:pt x="0" y="1586"/>
                    </a:lnTo>
                    <a:lnTo>
                      <a:pt x="22" y="1705"/>
                    </a:lnTo>
                    <a:lnTo>
                      <a:pt x="118" y="1824"/>
                    </a:lnTo>
                    <a:lnTo>
                      <a:pt x="237" y="1921"/>
                    </a:lnTo>
                    <a:lnTo>
                      <a:pt x="405" y="2039"/>
                    </a:lnTo>
                    <a:lnTo>
                      <a:pt x="621" y="2158"/>
                    </a:lnTo>
                    <a:lnTo>
                      <a:pt x="859" y="2255"/>
                    </a:lnTo>
                    <a:lnTo>
                      <a:pt x="1123" y="2374"/>
                    </a:lnTo>
                    <a:lnTo>
                      <a:pt x="934" y="2277"/>
                    </a:lnTo>
                    <a:lnTo>
                      <a:pt x="788" y="2158"/>
                    </a:lnTo>
                    <a:lnTo>
                      <a:pt x="691" y="2061"/>
                    </a:lnTo>
                    <a:lnTo>
                      <a:pt x="621" y="1969"/>
                    </a:lnTo>
                    <a:lnTo>
                      <a:pt x="599" y="1872"/>
                    </a:lnTo>
                    <a:lnTo>
                      <a:pt x="599" y="1775"/>
                    </a:lnTo>
                    <a:lnTo>
                      <a:pt x="621" y="1678"/>
                    </a:lnTo>
                    <a:lnTo>
                      <a:pt x="691" y="1608"/>
                    </a:lnTo>
                    <a:lnTo>
                      <a:pt x="788" y="1511"/>
                    </a:lnTo>
                    <a:lnTo>
                      <a:pt x="885" y="1441"/>
                    </a:lnTo>
                    <a:lnTo>
                      <a:pt x="1172" y="1295"/>
                    </a:lnTo>
                    <a:lnTo>
                      <a:pt x="1555" y="1154"/>
                    </a:lnTo>
                    <a:lnTo>
                      <a:pt x="1960" y="1031"/>
                    </a:lnTo>
                    <a:lnTo>
                      <a:pt x="2442" y="938"/>
                    </a:lnTo>
                    <a:lnTo>
                      <a:pt x="2918" y="842"/>
                    </a:lnTo>
                    <a:lnTo>
                      <a:pt x="3923" y="673"/>
                    </a:lnTo>
                    <a:lnTo>
                      <a:pt x="4377" y="598"/>
                    </a:lnTo>
                    <a:lnTo>
                      <a:pt x="4809" y="528"/>
                    </a:lnTo>
                    <a:lnTo>
                      <a:pt x="5193" y="506"/>
                    </a:lnTo>
                    <a:lnTo>
                      <a:pt x="5501" y="457"/>
                    </a:lnTo>
                    <a:lnTo>
                      <a:pt x="5501" y="0"/>
                    </a:lnTo>
                    <a:lnTo>
                      <a:pt x="5118" y="96"/>
                    </a:lnTo>
                    <a:lnTo>
                      <a:pt x="4712" y="167"/>
                    </a:lnTo>
                    <a:lnTo>
                      <a:pt x="3853" y="312"/>
                    </a:lnTo>
                    <a:lnTo>
                      <a:pt x="2966" y="409"/>
                    </a:lnTo>
                    <a:lnTo>
                      <a:pt x="2128" y="554"/>
                    </a:lnTo>
                    <a:lnTo>
                      <a:pt x="1723" y="625"/>
                    </a:lnTo>
                    <a:lnTo>
                      <a:pt x="1361" y="695"/>
                    </a:lnTo>
                    <a:lnTo>
                      <a:pt x="1004" y="792"/>
                    </a:lnTo>
                    <a:lnTo>
                      <a:pt x="718" y="890"/>
                    </a:lnTo>
                    <a:lnTo>
                      <a:pt x="453" y="1009"/>
                    </a:lnTo>
                    <a:lnTo>
                      <a:pt x="237" y="1128"/>
                    </a:lnTo>
                    <a:lnTo>
                      <a:pt x="96" y="1295"/>
                    </a:lnTo>
                    <a:lnTo>
                      <a:pt x="0" y="1463"/>
                    </a:lnTo>
                    <a:lnTo>
                      <a:pt x="0" y="1463"/>
                    </a:lnTo>
                    <a:lnTo>
                      <a:pt x="0" y="1463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30720" y="2236680"/>
                <a:ext cx="3646440" cy="2332080"/>
              </a:xfrm>
              <a:custGeom>
                <a:avLst/>
                <a:gdLst/>
                <a:ahLst/>
                <a:rect l="l" t="t" r="r" b="b"/>
                <a:pathLst>
                  <a:path w="10127" h="6477">
                    <a:moveTo>
                      <a:pt x="3400" y="4796"/>
                    </a:moveTo>
                    <a:lnTo>
                      <a:pt x="4331" y="4677"/>
                    </a:lnTo>
                    <a:lnTo>
                      <a:pt x="5196" y="4558"/>
                    </a:lnTo>
                    <a:lnTo>
                      <a:pt x="5985" y="4461"/>
                    </a:lnTo>
                    <a:lnTo>
                      <a:pt x="6703" y="4342"/>
                    </a:lnTo>
                    <a:lnTo>
                      <a:pt x="7347" y="4218"/>
                    </a:lnTo>
                    <a:lnTo>
                      <a:pt x="7920" y="4099"/>
                    </a:lnTo>
                    <a:lnTo>
                      <a:pt x="8450" y="3954"/>
                    </a:lnTo>
                    <a:lnTo>
                      <a:pt x="8878" y="3835"/>
                    </a:lnTo>
                    <a:lnTo>
                      <a:pt x="9262" y="3668"/>
                    </a:lnTo>
                    <a:lnTo>
                      <a:pt x="9575" y="3526"/>
                    </a:lnTo>
                    <a:lnTo>
                      <a:pt x="9791" y="3333"/>
                    </a:lnTo>
                    <a:lnTo>
                      <a:pt x="9981" y="3139"/>
                    </a:lnTo>
                    <a:lnTo>
                      <a:pt x="10078" y="2949"/>
                    </a:lnTo>
                    <a:lnTo>
                      <a:pt x="10126" y="2707"/>
                    </a:lnTo>
                    <a:lnTo>
                      <a:pt x="10100" y="2469"/>
                    </a:lnTo>
                    <a:lnTo>
                      <a:pt x="10007" y="2204"/>
                    </a:lnTo>
                    <a:lnTo>
                      <a:pt x="9884" y="2015"/>
                    </a:lnTo>
                    <a:lnTo>
                      <a:pt x="9694" y="1799"/>
                    </a:lnTo>
                    <a:lnTo>
                      <a:pt x="9456" y="1605"/>
                    </a:lnTo>
                    <a:lnTo>
                      <a:pt x="9169" y="1414"/>
                    </a:lnTo>
                    <a:lnTo>
                      <a:pt x="8855" y="1220"/>
                    </a:lnTo>
                    <a:lnTo>
                      <a:pt x="8498" y="1031"/>
                    </a:lnTo>
                    <a:lnTo>
                      <a:pt x="7801" y="691"/>
                    </a:lnTo>
                    <a:lnTo>
                      <a:pt x="7444" y="550"/>
                    </a:lnTo>
                    <a:lnTo>
                      <a:pt x="7109" y="405"/>
                    </a:lnTo>
                    <a:lnTo>
                      <a:pt x="6774" y="286"/>
                    </a:lnTo>
                    <a:lnTo>
                      <a:pt x="6509" y="189"/>
                    </a:lnTo>
                    <a:lnTo>
                      <a:pt x="6271" y="119"/>
                    </a:lnTo>
                    <a:lnTo>
                      <a:pt x="6104" y="44"/>
                    </a:lnTo>
                    <a:lnTo>
                      <a:pt x="5985" y="22"/>
                    </a:lnTo>
                    <a:lnTo>
                      <a:pt x="5936" y="0"/>
                    </a:lnTo>
                    <a:lnTo>
                      <a:pt x="6606" y="238"/>
                    </a:lnTo>
                    <a:lnTo>
                      <a:pt x="7298" y="524"/>
                    </a:lnTo>
                    <a:lnTo>
                      <a:pt x="7969" y="815"/>
                    </a:lnTo>
                    <a:lnTo>
                      <a:pt x="8591" y="1123"/>
                    </a:lnTo>
                    <a:lnTo>
                      <a:pt x="8878" y="1269"/>
                    </a:lnTo>
                    <a:lnTo>
                      <a:pt x="9121" y="1436"/>
                    </a:lnTo>
                    <a:lnTo>
                      <a:pt x="9359" y="1605"/>
                    </a:lnTo>
                    <a:lnTo>
                      <a:pt x="9575" y="1772"/>
                    </a:lnTo>
                    <a:lnTo>
                      <a:pt x="9743" y="1940"/>
                    </a:lnTo>
                    <a:lnTo>
                      <a:pt x="9862" y="2107"/>
                    </a:lnTo>
                    <a:lnTo>
                      <a:pt x="9932" y="2301"/>
                    </a:lnTo>
                    <a:lnTo>
                      <a:pt x="9981" y="2469"/>
                    </a:lnTo>
                    <a:lnTo>
                      <a:pt x="9959" y="2636"/>
                    </a:lnTo>
                    <a:lnTo>
                      <a:pt x="9884" y="2804"/>
                    </a:lnTo>
                    <a:lnTo>
                      <a:pt x="9765" y="2949"/>
                    </a:lnTo>
                    <a:lnTo>
                      <a:pt x="9575" y="3095"/>
                    </a:lnTo>
                    <a:lnTo>
                      <a:pt x="9359" y="3214"/>
                    </a:lnTo>
                    <a:lnTo>
                      <a:pt x="9095" y="3333"/>
                    </a:lnTo>
                    <a:lnTo>
                      <a:pt x="8807" y="3430"/>
                    </a:lnTo>
                    <a:lnTo>
                      <a:pt x="8472" y="3526"/>
                    </a:lnTo>
                    <a:lnTo>
                      <a:pt x="8088" y="3619"/>
                    </a:lnTo>
                    <a:lnTo>
                      <a:pt x="7708" y="3716"/>
                    </a:lnTo>
                    <a:lnTo>
                      <a:pt x="6844" y="3861"/>
                    </a:lnTo>
                    <a:lnTo>
                      <a:pt x="5958" y="4002"/>
                    </a:lnTo>
                    <a:lnTo>
                      <a:pt x="5002" y="4148"/>
                    </a:lnTo>
                    <a:lnTo>
                      <a:pt x="4070" y="4267"/>
                    </a:lnTo>
                    <a:lnTo>
                      <a:pt x="3158" y="4386"/>
                    </a:lnTo>
                    <a:lnTo>
                      <a:pt x="2298" y="4531"/>
                    </a:lnTo>
                    <a:lnTo>
                      <a:pt x="1915" y="4602"/>
                    </a:lnTo>
                    <a:lnTo>
                      <a:pt x="1557" y="4699"/>
                    </a:lnTo>
                    <a:lnTo>
                      <a:pt x="1222" y="4769"/>
                    </a:lnTo>
                    <a:lnTo>
                      <a:pt x="909" y="4867"/>
                    </a:lnTo>
                    <a:lnTo>
                      <a:pt x="649" y="4964"/>
                    </a:lnTo>
                    <a:lnTo>
                      <a:pt x="406" y="5061"/>
                    </a:lnTo>
                    <a:lnTo>
                      <a:pt x="239" y="5180"/>
                    </a:lnTo>
                    <a:lnTo>
                      <a:pt x="97" y="5299"/>
                    </a:lnTo>
                    <a:lnTo>
                      <a:pt x="26" y="5418"/>
                    </a:lnTo>
                    <a:lnTo>
                      <a:pt x="0" y="5564"/>
                    </a:lnTo>
                    <a:lnTo>
                      <a:pt x="49" y="5709"/>
                    </a:lnTo>
                    <a:lnTo>
                      <a:pt x="120" y="5850"/>
                    </a:lnTo>
                    <a:lnTo>
                      <a:pt x="239" y="5974"/>
                    </a:lnTo>
                    <a:lnTo>
                      <a:pt x="433" y="6093"/>
                    </a:lnTo>
                    <a:lnTo>
                      <a:pt x="622" y="6190"/>
                    </a:lnTo>
                    <a:lnTo>
                      <a:pt x="865" y="6282"/>
                    </a:lnTo>
                    <a:lnTo>
                      <a:pt x="1151" y="6379"/>
                    </a:lnTo>
                    <a:lnTo>
                      <a:pt x="1438" y="6476"/>
                    </a:lnTo>
                    <a:lnTo>
                      <a:pt x="1173" y="6357"/>
                    </a:lnTo>
                    <a:lnTo>
                      <a:pt x="957" y="6234"/>
                    </a:lnTo>
                    <a:lnTo>
                      <a:pt x="768" y="6115"/>
                    </a:lnTo>
                    <a:lnTo>
                      <a:pt x="649" y="5996"/>
                    </a:lnTo>
                    <a:lnTo>
                      <a:pt x="552" y="5877"/>
                    </a:lnTo>
                    <a:lnTo>
                      <a:pt x="530" y="5758"/>
                    </a:lnTo>
                    <a:lnTo>
                      <a:pt x="552" y="5634"/>
                    </a:lnTo>
                    <a:lnTo>
                      <a:pt x="622" y="5542"/>
                    </a:lnTo>
                    <a:lnTo>
                      <a:pt x="768" y="5418"/>
                    </a:lnTo>
                    <a:lnTo>
                      <a:pt x="935" y="5326"/>
                    </a:lnTo>
                    <a:lnTo>
                      <a:pt x="1200" y="5229"/>
                    </a:lnTo>
                    <a:lnTo>
                      <a:pt x="1508" y="5132"/>
                    </a:lnTo>
                    <a:lnTo>
                      <a:pt x="1866" y="5035"/>
                    </a:lnTo>
                    <a:lnTo>
                      <a:pt x="2325" y="4942"/>
                    </a:lnTo>
                    <a:lnTo>
                      <a:pt x="2827" y="4867"/>
                    </a:lnTo>
                    <a:lnTo>
                      <a:pt x="3400" y="4796"/>
                    </a:lnTo>
                    <a:lnTo>
                      <a:pt x="3400" y="4796"/>
                    </a:lnTo>
                    <a:lnTo>
                      <a:pt x="3400" y="4796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61136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8800" spc="-1" strike="noStrike">
                <a:solidFill>
                  <a:srgbClr val="e5e5ff"/>
                </a:solidFill>
                <a:latin typeface="Palatino"/>
                <a:ea typeface="HG Mincho Light J"/>
              </a:rPr>
              <a:t>javaSea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A Sequence Annotation To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077320" cy="68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Palatino"/>
                <a:ea typeface="HG Mincho Light J"/>
              </a:rPr>
              <a:t>Data Path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Map File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from in-house expertis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from an external source TBD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587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Automated generation (EntrezGene?,UniGene?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587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Other organism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Accession Files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Automatically updated from NCBI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Chado XML Adapter in near futur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90000"/>
              </a:lnSpc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GAME XML via ChadoXML-GAME brid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Palatino"/>
                <a:ea typeface="HG Mincho Light J"/>
              </a:rPr>
              <a:t>Alignment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Alignments – remote or loc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Spidey – NCBI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BLAST – NCBI, local at FlyBas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ClustalW – Stanfor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Palatino"/>
                <a:ea typeface="HG Mincho Light J"/>
              </a:rPr>
              <a:t>javaSean Softwar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System Require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Java 1.4.1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Solaris 8 or Mac OS X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0"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Downloading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Binary dist in JAVASEAN_PKG.tar from http://www.gmod.org/javaSea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5e5ff"/>
                </a:solidFill>
                <a:latin typeface="Palatino"/>
                <a:ea typeface="HG Mincho Light J"/>
              </a:rPr>
              <a:t>javaSean was developed at </a:t>
            </a:r>
            <a:br>
              <a:rPr sz="2800"/>
            </a:br>
            <a:r>
              <a:rPr b="1" lang="en-GB" sz="2800" spc="-1" strike="noStrike">
                <a:solidFill>
                  <a:srgbClr val="e5e5ff"/>
                </a:solidFill>
                <a:latin typeface="Palatino"/>
                <a:ea typeface="HG Mincho Light J"/>
              </a:rPr>
              <a:t>FlyBase-Harv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Developed by Frank Smutniak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based on Joe Lemaire’s SEAN ap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Curator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Leyla Bayraktaroglu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Beverley Matth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Andy Schroed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  <a:ea typeface="HG Mincho Light J"/>
              </a:rPr>
              <a:t>Bill Gel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678168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Palatino"/>
                <a:ea typeface="HG Mincho Light J"/>
              </a:rPr>
              <a:t>javaS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8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Palatino"/>
                <a:ea typeface="HG Mincho Light J"/>
              </a:rPr>
              <a:t>SEquence ANnot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  <a:ea typeface="HG Mincho Light J"/>
              </a:rPr>
              <a:t>Developed to allow literature curation of sequence-level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  <a:ea typeface="HG Mincho Light J"/>
              </a:rPr>
              <a:t>Used for creation of ARG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  <a:ea typeface="HG Mincho Light J"/>
              </a:rPr>
              <a:t>(annotated reference gene sequ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Palatino"/>
                <a:ea typeface="HG Mincho Light J"/>
              </a:rPr>
              <a:t>Process of ARGS Cur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Select a gen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Create a reference sequence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Gene-plus reg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Create gene model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From nucleic acid alignments and literatur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Add additional sequence-level feature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Include literature citation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spcBef>
                <a:spcPts val="68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Add supporting informa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Palatino"/>
                <a:ea typeface="HG Mincho Light J"/>
              </a:rPr>
              <a:t>ARGS Curation with javaSEA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Gene bas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80000"/>
              </a:lnSpc>
              <a:spcBef>
                <a:spcPts val="587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Curate one gene at a tim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80000"/>
              </a:lnSpc>
              <a:spcBef>
                <a:spcPts val="587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Focus is on well studied gen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Literature drive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80000"/>
              </a:lnSpc>
              <a:spcBef>
                <a:spcPts val="587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Journal articl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80000"/>
              </a:lnSpc>
              <a:spcBef>
                <a:spcPts val="587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GenBank accession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80000"/>
              </a:lnSpc>
              <a:spcBef>
                <a:spcPts val="587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Personal communication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lnSpc>
                <a:spcPct val="80000"/>
              </a:lnSpc>
              <a:spcBef>
                <a:spcPts val="68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Feature ric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80000"/>
              </a:lnSpc>
              <a:spcBef>
                <a:spcPts val="587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Gene model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-284040">
              <a:lnSpc>
                <a:spcPct val="80000"/>
              </a:lnSpc>
              <a:spcBef>
                <a:spcPts val="587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Palatino"/>
              </a:rPr>
              <a:t>Variety of additional sequence-level featur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128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1240" indent="0">
              <a:lnSpc>
                <a:spcPct val="80000"/>
              </a:lnSpc>
              <a:spcBef>
                <a:spcPts val="68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Palatino"/>
                <a:ea typeface="HG Mincho Light J"/>
              </a:rPr>
              <a:t>Annotated Featur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mu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aberration breakpoi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transposon insertion site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regulatory reg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protein-binding site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1280" indent="-341280">
              <a:spcBef>
                <a:spcPts val="788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Palatino"/>
              </a:rPr>
              <a:t>rescue frag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0773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077320" cy="68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0773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077320" cy="682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M. Gelbart</dc:creator>
  <dc:description/>
  <dc:language>en-US</dc:language>
  <cp:lastModifiedBy/>
  <cp:revision>0</cp:revision>
  <dc:subject/>
  <dc:title>JavaSEAN</dc:title>
</cp:coreProperties>
</file>